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38338-6C99-4136-911E-1FAE020FE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Credit: Michelangelo (Painter). (1533-1534).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opatra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[Painting], Retrieved September 26, 2012 from: http://commons.wikimedia.org/wiki/File:Michelangelo,_Cleopatra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DF4E2-A2BF-4F5C-A372-37608F1B2A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LH_Title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" descr="RLH_Standard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RLH_Transition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9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RLH_transiti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RLH_Title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RLH_Title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2"/>
          <p:cNvSpPr/>
          <p:nvPr/>
        </p:nvSpPr>
        <p:spPr>
          <a:xfrm>
            <a:off x="993600" y="4205160"/>
            <a:ext cx="6921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1" descr="RLH_Standard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Straight Connector 2"/>
          <p:cNvSpPr/>
          <p:nvPr/>
        </p:nvSpPr>
        <p:spPr>
          <a:xfrm>
            <a:off x="765000" y="1308240"/>
            <a:ext cx="7429680" cy="0"/>
          </a:xfrm>
          <a:prstGeom prst="line">
            <a:avLst/>
          </a:prstGeom>
          <a:ln w="28440">
            <a:solidFill>
              <a:srgbClr val="7c0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6"/>
          <p:cNvSpPr/>
          <p:nvPr/>
        </p:nvSpPr>
        <p:spPr>
          <a:xfrm>
            <a:off x="7767720" y="613728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BC399-8C3E-42D0-B130-A9561DA1B8A1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1" descr="RLH_Standard_v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56"/>
          <p:cNvSpPr/>
          <p:nvPr/>
        </p:nvSpPr>
        <p:spPr>
          <a:xfrm>
            <a:off x="7767720" y="613728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2FE55-C6F6-47EF-BF26-654B236371B0}" type="slidenum">
              <a:rPr b="0" lang="en-US" sz="12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traight Connector 3"/>
          <p:cNvSpPr/>
          <p:nvPr/>
        </p:nvSpPr>
        <p:spPr>
          <a:xfrm>
            <a:off x="765000" y="1846440"/>
            <a:ext cx="7429680" cy="0"/>
          </a:xfrm>
          <a:prstGeom prst="line">
            <a:avLst/>
          </a:prstGeom>
          <a:ln w="28440">
            <a:solidFill>
              <a:srgbClr val="7c04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1280" y="553680"/>
            <a:ext cx="7658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eopatr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 Michelangelo, 1533-15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490680" y="387828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1932120" y="1292400"/>
            <a:ext cx="5108400" cy="5425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6:49:59Z</dcterms:created>
  <dc:creator>cse ucla</dc:creator>
  <dc:description/>
  <dc:language>en-US</dc:language>
  <cp:lastModifiedBy>Microsoft Office User</cp:lastModifiedBy>
  <dcterms:modified xsi:type="dcterms:W3CDTF">2013-11-06T13:31:57Z</dcterms:modified>
  <cp:revision>52</cp:revision>
  <dc:subject/>
  <dc:title>PowerPoint Presentation</dc:title>
</cp:coreProperties>
</file>